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B4E-FCB4-442C-8F87-BEBEFBB8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AEAB-2711-4822-9AC7-5B247D89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C84-1CE8-47AE-8B33-B0C9956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E0F-A180-4A19-BDB5-A75DF280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703-3087-48B9-8E72-EC99E67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34EA-0509-489A-80ED-558EB127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C15-729D-4B2B-A461-EB631EF8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983-9DE3-472D-BDEF-DBB57BF7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F9C-DBE7-4F5F-B751-8B4F973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FEE-D956-4874-B9A1-964C2F66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25A-A2CA-40A7-BC9C-95BF875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13D-8C30-4D36-9471-90F0DA6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B35-2BCF-460A-B067-6F6DBEC8CB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99"/>
                </a:solidFill>
                <a:latin typeface="Arial"/>
              </a:rPr>
              <a:t>Toxic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ubstance may be poisonous if touched or swallow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hem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emicals that can react with and destroy tissue and other material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Animal Safe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ppears when safety of animal and students must be ensur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Radioactivi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ears when radioactive materials are us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Biolog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ological materials that might be harmful to huma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Irritant/Corrosiv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ngs that can irritate skin or mucous membranes of the respiratory trac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ye Safety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per eye protections should be worn @ all times when observing or performing lab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Fum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ssible danger to respiratory tract from fu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lectric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ssible danger from electrical shock or bur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Clothing Protection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ppears when substances could stain or burn clothing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Open Flame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pen flame may ignite flammable chemicals, loose clothing, or hai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Extreme Temperatures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bjects that can burn skin by being too cold or ho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Sharp Object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of tools or glassware that can easily puncture or slice ski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Arial"/>
              </a:rPr>
              <a:t>Disposal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ecial disposal procedures need to be followe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3:29:06Z</dcterms:created>
  <dc:creator>Clear Creek ISD</dc:creator>
  <dc:description/>
  <dc:language>en-US</dc:language>
  <cp:lastModifiedBy>Clear Creek ISD</cp:lastModifiedBy>
  <dcterms:modified xsi:type="dcterms:W3CDTF">2009-09-01T19:27:27Z</dcterms:modified>
  <cp:revision>4</cp:revision>
  <dc:subject/>
  <dc:title>Toxic</dc:title>
</cp:coreProperties>
</file>